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7961-A60F-48F9-88E4-18AF703B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01A-9EB7-49D6-8792-88C2BA81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545-B0B7-4798-9299-270B7621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8FE-0C81-4807-9626-FFF6B24C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2C1-E94F-40F8-9F64-FC7F5F53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C8F-F182-4C5C-8AB8-310F7659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D45-14A8-4448-BAE8-E58703B5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0E9-7897-4208-85A8-27698F59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9F4-ACD8-4F8A-B70D-D520B78A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281-E344-44CD-B056-5DF66F4C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111C-53D1-43CF-B179-9BD55CFD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7A8-3618-4DBE-B133-184F1B1E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98A6-B7E6-437B-BDBF-332A6AFB5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5 Naše srdcia rado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napl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še srdcia rad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plňuje dne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ieseň vrúcna le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vďakou do nebi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elý vesmír sláv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ho Tvorcu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j my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mu vzda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jeho svätý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ie len hudby tó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ni spevu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le Láska več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Bohu vedie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lova spásnej prav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čuť chceme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tomto dome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svätý Pánov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je Božou láskou zjednotený ľu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mu dá čo sľúbil: požehnania prú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lnosť Ducha svoj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iek na bole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ravý od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nok raz vo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ost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26:17Z</dcterms:modified>
  <cp:revision>22</cp:revision>
  <dc:subject/>
  <dc:title>Je veľký náš Pán, on slávy je Kráľ Nech do všetkých strán  spev vrúcnych znie chvál.</dc:title>
</cp:coreProperties>
</file>